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6C5-96F3-42FD-8EF2-1087566B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901-CD9B-4B5F-85B9-D5055C42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F62-2264-4EA1-9010-CFB18E59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AF0-8F26-4FAE-B7FF-82DC3015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C15-4473-4A82-9153-AF836D3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99C-B68B-4E4F-A2AE-75F1F039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B8C-27A8-401D-8477-1329657A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07F-0443-46F8-8F9D-37AE91CB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73E-D352-47D7-B467-ADEA278B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647-ABB8-4808-9450-3E556A3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646-661B-49D6-8BC0-BFD4C26E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B2A-D25F-4885-BF79-AAA1145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8571-1B21-4F5A-9758-87A8DD696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xtranormal.com/" TargetMode="External"/><Relationship Id="rId2" Type="http://schemas.openxmlformats.org/officeDocument/2006/relationships/hyperlink" Target="http://www.xtranormal.com/" TargetMode="External"/><Relationship Id="rId3" Type="http://schemas.openxmlformats.org/officeDocument/2006/relationships/hyperlink" Target="http://www.xtranormal.com/" TargetMode="External"/><Relationship Id="rId4" Type="http://schemas.openxmlformats.org/officeDocument/2006/relationships/hyperlink" Target="http://www.xtranormal.com/watch?e=200908161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youtube.com/watch?v=-D57_p9WgSw&amp;feature=related" TargetMode="External"/><Relationship Id="rId3" Type="http://schemas.openxmlformats.org/officeDocument/2006/relationships/hyperlink" Target="http://www.bethlehempubliclibrary.org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taggalaxy.de/" TargetMode="External"/><Relationship Id="rId3" Type="http://schemas.openxmlformats.org/officeDocument/2006/relationships/hyperlink" Target="http://taggalaxy.de/" TargetMode="External"/><Relationship Id="rId4" Type="http://schemas.openxmlformats.org/officeDocument/2006/relationships/hyperlink" Target="http://taggalaxy.de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community.scholastic.com/scholastic/board?board.id=flashlightreaders_hugocabre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ng Reluctant Readers &amp; Writers With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/Language Resource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MS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h Doun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a Grimes-Picaraz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Solu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 Sh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-review of material, end of unit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-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-at least two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- pertinent information, type of game to use (Jeopardy or Millionaire for example), question format, visuals, sound c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-grammar counts/ language use, creativity, practice using power point, review of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rterly Class Newsletter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 Eagle Sc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-writing and publishing a news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-parents (mailed h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-from brainstorming to final draft and pub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-write about what  you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-students practice writing in different genres (editorials, advice, horoscopes, car reviews, short stories, book reviews, po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ng Writing Opportunities</a:t>
            </a:r>
            <a:br>
              <a:rPr sz="4400"/>
            </a:b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xtranormal.com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-writing dialogue, curriculum linked writing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-self, peers, teachers, internet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-from brainstorming to final draft and pub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-choose a character from a book and tell story from his/her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-students practice writing from alternate point of view, create visual to solidify knowledge of events or story line, opportunity to share work, collab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1752480"/>
            <a:ext cx="32954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3520" y="0"/>
            <a:ext cx="674820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ve or die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s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le.net to create a “word cloud” of selected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to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and tell …. What’s working for you in your class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room Solutions to Motivate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questions do  you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uld you like to t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tor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ranorma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Point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to Speech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drive @ public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 Gala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19320" y="0"/>
            <a:ext cx="67881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ng Reluctant Rea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hy are they “reluctant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bility – in need of assistance,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interested – in need of motivation, increas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1152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19320" y="0"/>
            <a:ext cx="67881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ng Reluctant Readers Supporting and Assisting Students with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ouds, recorded books, text to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wil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Youtub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lack Duc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ublic libr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dle, Text to speech software, Natural Reader, Read and Write Gold, BookShare, Test T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19320" y="0"/>
            <a:ext cx="67881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ng Reluctant Readers Supporting and Assisting Students with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supports – movies, trailers, puppets (real or virtual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 knowledg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de Talk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avaho)-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aggalaxy.d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362320" y="0"/>
            <a:ext cx="4619520" cy="6553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ng Reluctant 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their interest by using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choice – collaboration with other students outside of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ing special inter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kis, blogs, forums, e-mail, 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on.com book reviews, scholastic.com boo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iscus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Ess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purpose for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work through process from draft to finished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ch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Solu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taped “news segments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– information, enter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 of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 from draft to final product over 3 sessions, once per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 (within boundaries) of topics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 – practice using vocabulary mapped in previous classes, multiple opportunities to practice reading fluency, and practice using “good speech”, posture, enunciation, projec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72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ing Solu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ion of the Technology Guide for Senior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–education of Senior Citizens by exper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ence – family members,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process from draft to final product over 3 sessions, once per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choice (within boundaries) of topic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benefits – research, students as teachers, writing with emphasis on clarity and mecha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2700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Solu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 Stor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-a digital form of book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ence-students trying to find a good book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process from draft to final product- 2 sessions (used a graphic organiz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choice of opinion, pictures,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enefits-visualization, reading fluency, review of literary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13:56:29Z</dcterms:created>
  <dc:creator> </dc:creator>
  <dc:description/>
  <dc:language>en-US</dc:language>
  <cp:lastModifiedBy>bcsduser</cp:lastModifiedBy>
  <dcterms:modified xsi:type="dcterms:W3CDTF">2009-10-19T16:05:36Z</dcterms:modified>
  <cp:revision>40</cp:revision>
  <dc:subject/>
  <dc:title>Motivating Reluctant Writers With Technology</dc:title>
</cp:coreProperties>
</file>